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18C-77DE-4CB4-809B-E0D157D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B3D-3FCF-4E09-AB12-6FAFAE91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754-C8F2-4C70-BC05-87B203EB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C0C-DECA-4353-A7D5-EBE5682C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042-D7D4-4749-A7C9-B4CEBD02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D8D-229A-4043-B6BE-B2A1906B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E2F-941B-4683-8449-7FB48D8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6FF-8C8F-4262-BABA-A3AE51F5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14C-3B18-4367-9419-EDF1138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772-ADC1-4DB8-A666-36F73A7A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9A7-6DF5-40F9-A2A5-7375125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93B-F702-483E-A6B4-AF89112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642-2D68-4E85-8348-5F62E0E43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a.com/wfb/photos/iraq/iraq_photos_17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arvesting date pal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480" y="3346560"/>
            <a:ext cx="3140280" cy="32986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4"/>
          <a:stretch/>
        </p:blipFill>
        <p:spPr>
          <a:xfrm>
            <a:off x="2163600" y="-79200"/>
            <a:ext cx="1792440" cy="2023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5"/>
          <a:stretch/>
        </p:blipFill>
        <p:spPr>
          <a:xfrm>
            <a:off x="6192720" y="5224320"/>
            <a:ext cx="1738440" cy="4082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7" descr=""/>
          <p:cNvPicPr/>
          <p:nvPr/>
        </p:nvPicPr>
        <p:blipFill>
          <a:blip r:embed="rId6"/>
          <a:stretch/>
        </p:blipFill>
        <p:spPr>
          <a:xfrm>
            <a:off x="7023240" y="2786040"/>
            <a:ext cx="2127240" cy="4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lm iraq..jpg"/>
          <p:cNvPicPr/>
          <p:nvPr/>
        </p:nvPicPr>
        <p:blipFill>
          <a:blip r:embed="rId7"/>
          <a:stretch/>
        </p:blipFill>
        <p:spPr>
          <a:xfrm>
            <a:off x="0" y="0"/>
            <a:ext cx="220968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lm iraq clothes.jpg"/>
          <p:cNvPicPr/>
          <p:nvPr/>
        </p:nvPicPr>
        <p:blipFill>
          <a:blip r:embed="rId8"/>
          <a:stretch/>
        </p:blipFill>
        <p:spPr>
          <a:xfrm>
            <a:off x="6931080" y="-6480"/>
            <a:ext cx="2219400" cy="2962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3" descr=""/>
          <p:cNvPicPr/>
          <p:nvPr/>
        </p:nvPicPr>
        <p:blipFill>
          <a:blip r:embed="rId9"/>
          <a:stretch/>
        </p:blipFill>
        <p:spPr>
          <a:xfrm>
            <a:off x="-55440" y="6456240"/>
            <a:ext cx="2957400" cy="40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m Iraq Cloce up.jpg"/>
          <p:cNvPicPr/>
          <p:nvPr/>
        </p:nvPicPr>
        <p:blipFill>
          <a:blip r:embed="rId10"/>
          <a:srcRect l="0" t="0" r="45243" b="21876"/>
          <a:stretch/>
        </p:blipFill>
        <p:spPr>
          <a:xfrm>
            <a:off x="3809880" y="0"/>
            <a:ext cx="312444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11"/>
          <a:stretch/>
        </p:blipFill>
        <p:spPr>
          <a:xfrm>
            <a:off x="2687760" y="2408400"/>
            <a:ext cx="4176720" cy="29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ttp://t0.gstatic.com/images?q=tbn:ANd9GcQ7ssPv_s5A3HGN-BgkByuwBgdGCEj8LskQZbEbjrRemyypiWaq"/>
          <p:cNvPicPr/>
          <p:nvPr/>
        </p:nvPicPr>
        <p:blipFill>
          <a:blip r:embed="rId12"/>
          <a:stretch/>
        </p:blipFill>
        <p:spPr>
          <a:xfrm>
            <a:off x="7424640" y="3730680"/>
            <a:ext cx="1743120" cy="627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lag of Iraq"/>
          <p:cNvPicPr/>
          <p:nvPr/>
        </p:nvPicPr>
        <p:blipFill>
          <a:blip r:embed="rId13"/>
          <a:stretch/>
        </p:blipFill>
        <p:spPr>
          <a:xfrm>
            <a:off x="3273480" y="5138640"/>
            <a:ext cx="3048120" cy="17258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14"/>
          <a:stretch/>
        </p:blipFill>
        <p:spPr>
          <a:xfrm>
            <a:off x="6802560" y="3395520"/>
            <a:ext cx="2347920" cy="4208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3" descr=""/>
          <p:cNvPicPr/>
          <p:nvPr/>
        </p:nvPicPr>
        <p:blipFill>
          <a:blip r:embed="rId15"/>
          <a:stretch/>
        </p:blipFill>
        <p:spPr>
          <a:xfrm>
            <a:off x="176040" y="3017880"/>
            <a:ext cx="21956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8:45:31Z</dcterms:modified>
  <cp:revision>29</cp:revision>
  <dc:subject/>
  <dc:title>Slide 1</dc:title>
</cp:coreProperties>
</file>